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7A62-A768-4A1F-A4A5-B8ADB2534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51F7-6B79-438A-BB73-562CEA41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A3AA-F1AA-4597-B828-348231A03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0450-A5D7-484D-B4F8-37B7FCA01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60C4-0C84-4F12-BC65-E6386A61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6629-E8E0-4641-A8C0-AC3A8B89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5651-2498-46C7-84F6-98D08B2D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ED33-4D3D-42D3-B509-3D310EC2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C5E8-AE97-41F9-A787-1DD13C4E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466B-C20D-470C-A320-6856A18F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0921-394B-4826-A76A-3094FA0E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9CC6-042E-45ED-9D2B-55866338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8370-1F7A-4400-8319-7CEF0AFB0E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0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3"/>
          <a:stretch/>
        </p:blipFill>
        <p:spPr>
          <a:xfrm>
            <a:off x="250920" y="1509840"/>
            <a:ext cx="860112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50920" y="6095880"/>
            <a:ext cx="8569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فظ الله له عن التحريف إلى يوم القيا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3"/>
          <a:stretch/>
        </p:blipFill>
        <p:spPr>
          <a:xfrm>
            <a:off x="3276720" y="836640"/>
            <a:ext cx="5651280" cy="546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"/>
          <p:cNvPicPr/>
          <p:nvPr/>
        </p:nvPicPr>
        <p:blipFill>
          <a:blip r:embed="rId4"/>
          <a:stretch/>
        </p:blipFill>
        <p:spPr>
          <a:xfrm>
            <a:off x="250920" y="2116080"/>
            <a:ext cx="8691480" cy="1384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"/>
          <p:cNvPicPr/>
          <p:nvPr/>
        </p:nvPicPr>
        <p:blipFill>
          <a:blip r:embed="rId5"/>
          <a:stretch/>
        </p:blipFill>
        <p:spPr>
          <a:xfrm>
            <a:off x="1679400" y="5487840"/>
            <a:ext cx="7263000" cy="53352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324000" y="3500280"/>
            <a:ext cx="856908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من عادة المكذبين الكفر بما أتى به الرس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الله تعالى يزيد اهل الكفر والضلال ضلالا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لم الله السابق بما سوف يفعله المكذب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324000" y="141768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يمان بهم وأنهم رسل من عند الله سبحانه و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5840"/>
            <a:ext cx="913284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72"/>
          <a:stretch/>
        </p:blipFill>
        <p:spPr>
          <a:xfrm>
            <a:off x="250920" y="1700280"/>
            <a:ext cx="862164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8353440" cy="2793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154320" y="4567320"/>
            <a:ext cx="312408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250920" y="1015920"/>
            <a:ext cx="864216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2" descr=""/>
          <p:cNvPicPr/>
          <p:nvPr/>
        </p:nvPicPr>
        <p:blipFill>
          <a:blip r:embed="rId1"/>
          <a:stretch/>
        </p:blipFill>
        <p:spPr>
          <a:xfrm>
            <a:off x="250920" y="1671480"/>
            <a:ext cx="8642160" cy="4853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2"/>
          <a:stretch/>
        </p:blipFill>
        <p:spPr>
          <a:xfrm>
            <a:off x="0" y="836640"/>
            <a:ext cx="9140760" cy="66204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2843280" y="907920"/>
            <a:ext cx="45162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صفات القرآن الكري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395280" y="447372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آ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95280" y="504972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لتبديل والتحريف والزيادة والنقص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5732640"/>
            <a:ext cx="482436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خيل إلينا ذل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3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179280" y="1574640"/>
            <a:ext cx="86662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فات القرآن الكريم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كلام الله الحق وهو منزل غير مخلوق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حفوظ بحفظ الله إلى يوم القيامة فلن يحرّف كما حرفت التوراة والإنجي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98440" y="258300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ادة المكذب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ستهزاء بالرسل والكفر بما أتوا ب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7040" y="3086280"/>
            <a:ext cx="866628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يزيد أهل الكفر والضلا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ضلالاً فيعمي بصائرهم عن رؤية الحق لحكمة بالغة هو يعلم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66760" y="387972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سنة الله في المكذبي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هلاك والإذلال والتدمي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"/>
          <p:cNvPicPr/>
          <p:nvPr/>
        </p:nvPicPr>
        <p:blipFill>
          <a:blip r:embed="rId1"/>
          <a:stretch/>
        </p:blipFill>
        <p:spPr>
          <a:xfrm>
            <a:off x="179280" y="932040"/>
            <a:ext cx="8785440" cy="1180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5" name="عنوان 1"/>
          <p:cNvSpPr/>
          <p:nvPr/>
        </p:nvSpPr>
        <p:spPr>
          <a:xfrm>
            <a:off x="247680" y="2276640"/>
            <a:ext cx="8640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منزلة من عند 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زلت مصدقة للرسل عليهم الصلاة والسل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فيها هدى للمؤمن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613720" cy="1295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179280" y="2349360"/>
            <a:ext cx="864072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خلا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حفظ في الصغر كالنقش على الحجر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ختيار وقت الحف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ختيار مكان الحف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قراءة المجودة والمنغمة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اقتصار على طبعة واحدة من المصحف ولا يغيره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صحيح القراءة مقدّم على الحف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8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ملية الربط مقدم على الحف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9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ـتــكــرار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10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حفظ اليومي المنتظم خير من الحفظ المتقط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31T07:43:48Z</dcterms:modified>
  <cp:revision>1842</cp:revision>
  <dc:subject/>
  <dc:title>عرض تقديمي في PowerPoint</dc:title>
</cp:coreProperties>
</file>